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gif" ContentType="image/gif"/>
  <Override PartName="/ppt/media/image10.jpeg" ContentType="image/jpeg"/>
  <Override PartName="/ppt/media/image4.png" ContentType="image/png"/>
  <Override PartName="/ppt/media/image18.gif" ContentType="image/gif"/>
  <Override PartName="/ppt/media/image13.jpeg" ContentType="image/jpeg"/>
  <Override PartName="/ppt/media/image8.jpeg" ContentType="image/jpeg"/>
  <Override PartName="/ppt/media/image30.png" ContentType="image/png"/>
  <Override PartName="/ppt/media/image5.jpeg" ContentType="image/jpeg"/>
  <Override PartName="/ppt/media/image24.gif" ContentType="image/gif"/>
  <Override PartName="/ppt/media/image32.jpeg" ContentType="image/jpeg"/>
  <Override PartName="/ppt/media/image7.gif" ContentType="image/gif"/>
  <Override PartName="/ppt/media/image26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3.gif" ContentType="image/gif"/>
  <Override PartName="/ppt/media/image29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2.gif" ContentType="image/gif"/>
  <Override PartName="/ppt/media/image19.jpeg" ContentType="image/jpeg"/>
  <Override PartName="/ppt/media/image20.png" ContentType="image/png"/>
  <Override PartName="/ppt/media/image27.gif" ContentType="image/gif"/>
  <Override PartName="/ppt/media/image2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445-DDA3-4117-8997-A665AC8C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7B56-F037-4AF0-B121-0F3E8DC8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CF3-C169-4E1F-BFB4-2C9D1FDE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C23D-5A9A-44F4-B5C8-09746E7C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D30-71EE-4284-8FF9-5C78C911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EB15-156D-47AC-A4E8-31DE70F7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06D-03AE-49E4-86BA-73C6461B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314F-D25C-4411-88F9-A403F64D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8CD3-3A91-428C-ACB7-E92A9302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EDE-28C9-4F50-82E9-594E48C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A19A-6B23-44A2-B51C-F0201502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4A4-C110-4495-8310-CAC74106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B83F-3B60-4B88-95D1-B35B4F2F19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99cc00"/>
                </a:solidFill>
                <a:latin typeface="Arial"/>
              </a:rPr>
              <a:t>温暖的港湾—寝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042920" y="3645000"/>
            <a:ext cx="6372360" cy="628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740720" y="6237360"/>
            <a:ext cx="1139760" cy="401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187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30934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5640" y="1125360"/>
            <a:ext cx="532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☆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三年很快过去了，在寝室中留给你最美好的回忆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076720" y="4941720"/>
            <a:ext cx="3505320" cy="8766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0920" y="0"/>
            <a:ext cx="43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黑体"/>
              </a:rPr>
              <a:t>玩个小游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213372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Arial"/>
              </a:rPr>
              <a:t>●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他（她）最爱吃的食物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3213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▲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他（她）在寝室说的最多的一句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292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★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他（她）毕业于哪所小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6922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◆</a:t>
            </a:r>
            <a:r>
              <a:rPr b="1" lang="zh-CN" sz="3200" spc="-1" strike="noStrike">
                <a:solidFill>
                  <a:srgbClr val="ccff33"/>
                </a:solidFill>
                <a:latin typeface="Arial"/>
              </a:rPr>
              <a:t>在寝室中谁最能谈天说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2050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■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他（她）常在寝室里提小学的事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78936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▼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他（她）的愿望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95280" y="4797360"/>
            <a:ext cx="849636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71640" y="227664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▽</a:t>
            </a:r>
            <a:r>
              <a:rPr b="1" lang="zh-CN" sz="4800" spc="-1" strike="noStrike">
                <a:solidFill>
                  <a:srgbClr val="cc00ff"/>
                </a:solidFill>
                <a:latin typeface="Arial"/>
              </a:rPr>
              <a:t>　让我们陶醉在动人的萨克斯音乐中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2879640" cy="14508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4716360" y="4653000"/>
            <a:ext cx="3961080" cy="749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79567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35092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27640" y="4724280"/>
            <a:ext cx="2705400" cy="1970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1476360" y="1628640"/>
            <a:ext cx="6191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Вуе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－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Ъуē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0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2484360" y="549360"/>
            <a:ext cx="3929040" cy="101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的寝室我们的家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598920" cy="4608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3600360" cy="453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428840" cy="14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32000" cy="597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500720" y="404640"/>
            <a:ext cx="4464000" cy="59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2843280" y="0"/>
            <a:ext cx="304776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我们的家</a:t>
            </a:r>
            <a:endParaRPr b="0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4098600" cy="6048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476280"/>
            <a:ext cx="4249800" cy="6121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8360" y="429264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276720" y="189000"/>
            <a:ext cx="228276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我们的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549720"/>
            <a:ext cx="1811160" cy="19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900360" y="620280"/>
            <a:ext cx="950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与君离别意，同是宦游人。海内存知己，天涯若比邻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勃：《送杜少府之任蜀州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又送王孙去，萋萋满别情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：《送友人》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春草明年绿，王孙归不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白居易：《赋得古原草送别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渭城朝雨悒轻尘，客舍青青柳色新。劝君更尽一杯酒，西出阳关无故人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维：《送元二使安西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寒雨连江夜入吴，平明送客楚山孤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王昌龄：《芙蓉楼送辛渐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莫愁前路无知己，天下谁人不识君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适：《别董大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桃花潭水三千尺，不及汪伦送我情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：《赠汪伦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孤帆远影碧空尽，唯见长江天际流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白：《送孟浩然之广陵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轮台东门送君去，雪上空留马行处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岑参：《白雪歌送武判官归京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长亭外，古道边，芳草碧连天。晚风拂柳笛声残，夕阳山外山。天之涯，海之角，知交半零落。一瓢浊酒尽余欢，今宵别梦寒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叔同：《送别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360" y="0"/>
            <a:ext cx="10335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请大家齐声朗读并从中体会古人的友谊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00720" y="193680"/>
            <a:ext cx="439236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9900ff"/>
                </a:solidFill>
                <a:latin typeface="Arial"/>
              </a:rPr>
              <a:t>友谊诗</a:t>
            </a: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你是一只来至南方的大燕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因为我是你生命的春天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你注定要飞到我的身边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青春活力让你我产生了共鸣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相交得知——人生一知己足矣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你心灵的密码只有我来破解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无需多语你我便心照不宣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你喜欢在电闪雷鸣中搏击生命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即使折断了双臂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也不要绝望地望着蓝天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因为有我在你身边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寂寞从此与我无缘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有你在身边 四季都如同春天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千丝万缕 不知从何捋起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千言万语只说一句 </a:t>
            </a:r>
            <a:br>
              <a:rPr sz="2400"/>
            </a:br>
            <a:r>
              <a:rPr b="1" lang="zh-CN" sz="2400" spc="-1" strike="noStrike">
                <a:solidFill>
                  <a:srgbClr val="9900ff"/>
                </a:solidFill>
                <a:latin typeface="Arial"/>
              </a:rPr>
              <a:t>——与你相识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92280"/>
            <a:ext cx="727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⊙ </a:t>
            </a:r>
            <a:r>
              <a:rPr b="1" lang="zh-CN" sz="3200" spc="-1" strike="noStrike">
                <a:solidFill>
                  <a:srgbClr val="ff3399"/>
                </a:solidFill>
                <a:latin typeface="Arial"/>
              </a:rPr>
              <a:t>说一说在寝室中令你最感动的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732720" y="189000"/>
            <a:ext cx="2160360" cy="2060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95280" y="2492280"/>
            <a:ext cx="756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◇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说一说三年来，室友们的友谊表现在哪些方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4365720"/>
            <a:ext cx="67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△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，在寝室里发生的一件最开心的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5851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48360" y="1484280"/>
            <a:ext cx="30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ff"/>
                </a:solidFill>
                <a:latin typeface="Arial"/>
              </a:rPr>
              <a:t>□ </a:t>
            </a:r>
            <a:r>
              <a:rPr b="0" lang="zh-CN" sz="3600" spc="-1" strike="noStrike">
                <a:solidFill>
                  <a:srgbClr val="cc00ff"/>
                </a:solidFill>
                <a:latin typeface="Arial"/>
              </a:rPr>
              <a:t>在寝室里最伤心的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284720" y="33577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◎</a:t>
            </a: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觉得在寝室里，谁最像父母？最能关心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71640" y="4005360"/>
            <a:ext cx="180000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6588000" cy="5969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547640" y="2276640"/>
            <a:ext cx="316872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6600ff"/>
                </a:solidFill>
                <a:latin typeface="Arial"/>
              </a:rPr>
              <a:t>¤ </a:t>
            </a:r>
            <a:r>
              <a:rPr b="0" lang="zh-CN" sz="4400" spc="-1" strike="noStrike">
                <a:solidFill>
                  <a:srgbClr val="6600ff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6600ff"/>
                </a:solidFill>
                <a:latin typeface="Arial"/>
              </a:rPr>
              <a:t>你最想对室友说的话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851280" y="3429000"/>
            <a:ext cx="25718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06:55:0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43Z</dcterms:modified>
  <cp:revision>47</cp:revision>
  <dc:subject>主题班会课件(分28大类): http://shop62905894.taobao.com</dc:subject>
  <dc:title>主题班会课件(分28大类): http://shop62905894.taobao.com</dc:title>
</cp:coreProperties>
</file>